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88E-C20C-4546-BCD5-A7588983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6CE-3209-4FFA-AAE6-A9EB02D3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FB7-425D-462F-83E7-778FB5C5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2D6B-33E8-414E-A1E4-457FF1E9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5A4-B6D2-40F1-8602-07F0A318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1D4-465C-4DB2-9278-C46C6947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A7A-71E0-4F6F-AB54-F7B78634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1CD-8350-4464-A09E-5C8FCD09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5C3-2E8A-408F-816D-D815AF80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D5B-5063-4A74-8093-54A0A3FF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34D-ED8F-4DB1-9F79-5E025DD3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2EC-24AE-4A9A-801C-7C6A2E8D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F5BE-3B53-4FA9-81C2-C666DD227199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Opinión pub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98989"/>
                </a:solidFill>
                <a:latin typeface="Arial"/>
                <a:ea typeface="Arial"/>
              </a:rPr>
              <a:t>La opinión publica se genera de alguna noticia o hecho que se cuenta a manera de algu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588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Los medios mantienen pautas que manejan para restringir tem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572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98989"/>
                </a:solidFill>
                <a:latin typeface="Arial"/>
                <a:ea typeface="Arial"/>
              </a:rPr>
              <a:t>Los medios  y el gobierno sobre todo son quienes moldean la información para crear ficciones o manejar alguna situación en partic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2884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98989"/>
                </a:solidFill>
                <a:latin typeface="Arial"/>
                <a:ea typeface="Arial"/>
              </a:rPr>
              <a:t>Los temas se manejan convenientemente, es por ello que la O.P se genera a partir de lo dicho y no va mas allá de pensarse debido a que ya han manejado la información previamen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El manejo de información se maneja con algún fin, por ello el uso de diferentes factores que complementan la noticia son usados para crear ciertos impact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Algunos métodos utilizad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El discur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Las imág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Entrevistas que recaigan en lo que el entrevistado quiere dar a conoc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Anteponer tema para justificar un tema importa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El uso de elementos que se usan para darle el visto bueno a los problem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7f7f7f"/>
                </a:solidFill>
                <a:latin typeface="Arial"/>
                <a:ea typeface="Arial"/>
              </a:rPr>
              <a:t>El uso de temas que distraigan de un tema fuer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  <a:ea typeface="Arial"/>
              </a:rPr>
              <a:t>conclus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85920" y="2214360"/>
            <a:ext cx="6400800" cy="257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898989"/>
                </a:solidFill>
                <a:latin typeface="Calibri"/>
              </a:rPr>
              <a:t>La OP esta limitada, debido a como se ha manejado el tema, de cómo se modifica la información para crearnos una sola idea que los medios quieren generar con respecto a una persona o situación en particular, es verdad, el individuo es libre de aportar ideas sobre lo que piense de un tema, pero es libre de saberlo hasta donde quieran los medios y no saber una total verdad de la información que censura o la misma que modifica para crear pensamientos fictici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23:53:01Z</dcterms:created>
  <dc:creator>ana belem sanchez izaguirre</dc:creator>
  <dc:description/>
  <dc:language>en-US</dc:language>
  <cp:lastModifiedBy>ana belem sanchez izaguirre</cp:lastModifiedBy>
  <dcterms:modified xsi:type="dcterms:W3CDTF">2009-09-20T00:27:03Z</dcterms:modified>
  <cp:revision>1</cp:revision>
  <dc:subject/>
  <dc:title>Opinión publica</dc:title>
</cp:coreProperties>
</file>